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9C6-AFC1-4EF4-96E7-02F759EB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F86-8A65-4781-9FB3-371DAE1A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B4856-D002-460F-9AB7-19EA7531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5370E-F957-4D55-9B16-93FAC746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A2ABF-44D7-4FB1-8C5A-47209C59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8F1FB-68CF-4EDD-AFF4-999F9618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C32F0-8DB5-4B44-85F8-D4C69811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BCCD4-3CC7-4098-B95E-091FC0A1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DD4AB-904E-4E07-B81F-84421364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261F8-85FF-44D3-8753-9BF4D90B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72DF7-7AC8-4D47-99FC-8C904301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DB887-6092-4F65-A9AD-80F96986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816A-FB3C-4ED2-A3EB-CABC71B6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9CE3D-4B3A-4143-9979-10FA2361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E5A8C-5A61-4000-82FC-25AB4147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B1E4B-F9CC-496D-98AF-CADA4B41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0BD7D-0B32-4AA4-AC62-F00CF734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9C38D-DA04-4587-8720-C7388B28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3A616-81A0-4003-8AA4-139DCF84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7371A-438D-40AE-8323-A2BDD8B7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6E378-7448-444E-91B0-E9EAFEB5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99CBA-9FCF-440F-9E84-C41C1098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E771D-29CF-40BE-8E17-12EF75C5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4584-3A5D-4BD1-9270-46D1ED8E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38C82-2A08-4464-A6DE-237B4CB0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9ABFD-F5DB-40B6-BB65-E30D8FDA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FA359-A61C-44E3-A479-C9942568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63E70-9AC1-4CC2-816D-8EA179C8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A42A8-5DA9-4C59-8FB7-674D741B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D34A2-3002-4235-AE33-B88F9C6B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53A4F-6C33-465F-AD36-2336E936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622A9-8938-4A53-8CB5-D2A030F9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9E504-6D57-4902-81BD-423B3FF4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60AEF-B6D5-4967-9DAB-22F5FF85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E22B-E25D-43DF-8416-FAE96487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8D6A1-1A48-446D-BAB6-383DE08A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321A5-9EBA-4A5F-A188-411C5E1C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B2E8A-F55A-44D5-B2B7-0B3F4AD0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9A8BF-6346-4778-93AC-3E03A5CE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02F14-554C-4D66-85CA-22E083B9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233A9-F837-4970-90C4-C655CC3A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48DC7-A580-495E-BDA9-5C34E57C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03D7D-3326-4104-A9DB-7D56BF8D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EA6D7-109D-4AA9-8586-0552ECB6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3370D-CEBE-459D-8695-95817EE7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5C94-C1D6-4A7B-88D2-46A65330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0E00A-E8FD-4E93-B496-45FAE398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AE425-9D46-478C-8A17-0FE1D7E9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6FCD4-6E90-46FF-9E5F-79D62D0D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EC2B5-FFE6-4448-8FB1-A68CA3CB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E6223-1881-46A3-B8B3-97208D54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FD7920-53FF-4B44-AE68-6E479DF2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C1C45-CAC3-4087-9556-E1810060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361F27-8B24-4B0E-B044-991C0680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C14E29-291F-4780-8DBC-BCE53B14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AD52F-C19E-4F4D-885F-E29D2C78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820B-8ED6-4EB8-8DD8-D9CAB925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2C92AF-FBE6-46B2-9CAD-A17514C8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3E4F3E-231D-4C9C-8013-4D431864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F1813-D4CC-4922-A8BD-DBB2387D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4EC163-AB77-4019-9483-41D246FB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C0EB8-EE61-41FD-92E9-77065964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7D6C0-A839-4DB6-9E16-84126EBA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B71D2-206F-404E-8C72-4D0503F3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C3B6CE-95D6-4F3B-836E-9E39CF8E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5E79B3-5E91-43ED-A1BD-CF4031D4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45792E-3088-4F98-B072-46217637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B354-5CD0-4C60-8DF6-26B2A01F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99D670-D90E-4F53-B0D3-7CE08D62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81D335-B3E1-422F-9E7D-210307AD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3DC16A-851F-484D-B753-638EC521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CA0B30-DDA8-4844-A518-0EC85710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0E48A7-520C-4130-8755-6CA0CD45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A713B-DE6D-43CF-ABEC-AB0A0B9E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10A242-2E7C-415A-AB3B-9489A3E9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EA197D-8092-4228-A95C-8AC563B0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EC2130-FFD4-4FAE-9CD0-65CD5B52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C32826-C448-4162-95A9-CD3631F1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4845-1F99-46F5-B2E3-4D58C486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6AEDA5-74D8-44E7-B0E2-620EDB33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5A3DDC-A404-48AA-9902-9CAB1B65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344EF9-B5FD-49D6-BCDB-4D68F02A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7A87BE-F313-4019-88D1-21BA2010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9A0BBB-3DE6-4C70-8F60-2C4F5F6C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F6C322-D093-4BA9-92AB-A778A3B7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FE7614-6DCF-48CA-8A56-28AAE211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D2EFE9-E3C0-4760-B6C8-638BFE03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45D6D4-5D85-4F9F-A898-6660460D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C59870-6FD9-4022-AA81-E654AB01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6A30-5E27-4253-A0A6-4216EDA5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AF99C9-C8C2-4CEC-BE34-F43FE3E1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CF8FAF-F354-4EA2-98CC-BF77787D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2A39D6-8C9C-495D-8542-FB03CBF8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1468D1-F1AB-4C86-A758-129BF603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3A6D17-E8A6-4C31-9447-016CE132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E6AFCD-F2CD-4211-B7CD-62D07F40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2E677D-6E81-4CCF-B040-48241DC3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5B5667-5CF2-4EA7-AFE3-89A3E8AE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1EA34B-BAFA-4A14-8D4E-E2A1CB22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EF5907-B642-4E04-A157-F723475F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03C7-DA7E-4BD1-84F3-0DAF1719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A2B2EE-353D-4F31-894A-EC5C1000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C4249-E4DF-4AD8-8714-B7E41998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1E1415-0732-4F84-939A-52749B0C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F47AA4-F45A-4FC1-AB35-5A821106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01CBDF-1BC6-441E-8F8F-4D7B867A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27626F-1DC8-4FA3-92D9-161CCFF3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7CCC11-EA2B-480F-8106-A655C0AC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F1FCEA-CA85-4CF3-91AB-5B406B6E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30DEA8-B51E-4B63-BDE1-4772EB3F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65148D-6D98-420B-B460-24311FFB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8F14-7A7B-486A-9086-AE855C64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5AF2-6FFE-473C-81ED-D6F55962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69365C-3C55-4301-BBA1-986C01D3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95037C-13FF-4C2A-8D7E-34111401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F3EC9A-6400-445C-B3BA-D20B5564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B7E998-E8A3-4F0B-A343-50F5B1EB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2C4D46-2BE2-47DD-B5E5-A3EACBB7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E97177-A059-451D-94AE-E4AF2962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BBD596-8956-4C70-8052-995A83A4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98C721-FBFA-4648-94E5-53984F23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868504-7230-4AE9-893B-230DC08A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B804C1-CFAB-43EE-8341-7C5B9689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F6E8-4433-4624-B380-7295AB11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66AC2C-AD02-4E9C-81A6-DFC6A055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3C43A1-FB9A-49C6-98C5-50530604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C512C1-9E15-4E11-8BA1-92ABB518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1C3945-AAD4-4105-A22C-615F36BE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C1C2E1-2A19-46D4-84F3-8D3499D6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B4D06C-06A1-45F2-873C-B91AB50D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3B8D7C-CFE7-4C65-963B-709503AC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463B37-8CD0-4AAA-83DB-36E10524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7294D3-3563-4B7F-A611-154AB7E5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C5993F-292F-4CF5-B1F4-1F84BE09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0582-6C4B-4CE0-9B2F-91001DBF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1E2CD0-63A4-4D68-BC9F-0230CDAE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28954B-828A-44CA-8AF7-5DA3B292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A0BCD0-8BB8-4C6B-A115-3694B2E3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A311EF-211E-403B-9E38-A82FDB2F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0ADA0D-DB79-43C1-9C05-AFABFCE5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F8ED0F-2A4A-4E4C-B303-85932263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C15922-0B8F-48DC-9D0C-D43D7031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7E49F0-E1CF-4DC8-AF3C-9CC715EF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00CC19-CF4E-49E8-A410-A13A330F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0CA61A-F443-4F58-AA2C-AA7182DF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8469-1645-4F27-BA99-7FED4F41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ABAD3F-8376-41B3-AC3A-7C07B589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00A5B3-F94D-421C-82D0-536790CD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06BC53-2AE0-4F7A-9AEE-BF232913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F06BF2-66FF-480E-914A-9DAA08C9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FD9AD1-8C88-4D3F-88BA-88D2151A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B734F4-AE02-435E-B8F2-EFD6389A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8CBB11-8F45-4E84-B43B-CA62C1AC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53A020-1FA6-466E-8B49-4231BA91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CE4A51-349C-4595-A9F7-FB0138FB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1368E8-D66C-4228-A07A-7C0EDC20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67F2-378F-4EC7-B94B-F869E075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1A0888-3823-4167-9488-7145C54E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65536B-7421-407A-A0CF-9FA4A51E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341EF4-148D-47F2-A396-1AFB2829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303701-A58E-4D40-A563-DFC15EC0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63BB95-5637-4CAE-83FD-9905F1E4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BD131F-688A-4FB5-9E4E-FF95C6EF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04B059-086D-46B7-920A-89B6E251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F5D80F-CA25-49C5-A873-7FE77D8D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15AE63-57BE-4252-B966-C4044376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B2BA19-013D-473F-A53A-43E54D61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59FB1-2BA8-466D-B29F-0CE802C3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88E7CD-A5F5-40D6-A951-D05BE88C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236636-D14F-420F-A8CC-81F24AA2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220B49-EB3C-45E5-8F0E-96373AD8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872B0-9B25-4667-8805-DB7FBEF4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C1B83-F476-416C-BB1C-828A65A0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DEED8-E7D9-4309-BB8D-40784760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1D7CD-0FA3-4964-B500-77619C58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FBF8-7406-447A-BB2E-7E097347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6B9AF-6A07-4525-A958-C81BC451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D24B0-00C4-4264-B0B7-9909BD34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3B928-B30D-43B5-9B30-FBB69C66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95404-50CD-45A7-97C5-55F953F8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8091C-3A43-46E8-85CE-60844AE7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DA370-20FE-437E-BF84-175EA020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1785D-C616-4A1B-8BB6-E2DEFBFF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192FA-213F-4C91-9E76-F13989EF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80295-5807-49D2-B0C9-CBA5E0A6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BA6D3-13BC-4F1E-8864-0AD6A660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C3CD-06DF-4AFB-8B05-68EDEABE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7DA84-DACC-44EB-8C85-16403427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36BBB-1A34-4046-8169-6DE6E09A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4130F-D450-4B4B-BAA7-516CCE43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D4215-773B-4F7A-9030-8198A287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D7EFE-93B4-4FDC-A177-3D1188F4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3FBC5-5C9F-4D6B-BA6F-403716E1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15423-E367-4EE3-ABA9-7F2DD272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08F14-C16C-4420-95FE-CDF45239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025CC-5BD7-4586-A1F0-F532E663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D52A9-D66D-4DE1-99C9-07FA16DC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268-09F6-42FB-926E-42C4B540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B0E70-138B-4534-AB42-8E42ED87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F096A-7318-408D-AFC9-06010CA6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3AE0A-4B8B-46BE-B5CA-4B3829A3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CC468-0E51-4E26-B1CC-FEC9320E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C947A-B621-4581-A52C-0E83A299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AFD2B-400F-4F67-A7B1-EBDF74C8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9F73E-76A7-41D0-874F-12C16F11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2F8FA-9EA9-491B-BEE7-0EA546C2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1BACC-0263-449F-947C-10EE0A36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08D90-8C95-4D1A-A18F-E3F25BED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9E1-2CEC-4A02-9FD2-81E0983C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0768C-6F1A-45CB-9ACA-56A9ACA1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4D213-53F2-43C2-A18B-4CF6B040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844AD-7505-4F2E-A1B5-D9D87375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96DEB-9549-4150-9DEC-39FD698B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850E2-4FC7-4097-AE34-4245B6DE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6518F-418D-4B74-A3AE-EFB36035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71E68-0BA1-481E-9E99-2B97B265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163DC-E3AC-4FBD-BEB5-7DBFC647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51866-1282-4834-BC9E-1A98EAC0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281A8-5287-48A0-9ED8-F98027FD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50C-036D-4442-9809-42D12B89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E4484-22CF-4346-BB1A-679D30CC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47F4A-8FCA-46BA-9E40-16DCFC5F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FFC3D-6FE4-468A-9AAF-52E85432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7B235-B664-48F1-8C7F-79E1A385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CAB95-174E-49FC-AAB8-82136436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F8A6F-C65F-453E-86EA-089F40DC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BFA3B-1B5D-40D3-871D-199CD86D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E8343-A943-4774-BC18-5BBAAEF9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6DF3C-D4B0-4AE2-BE6E-B6C4A0AE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533F9-79E0-4286-BF0B-AD6A50FC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B86-D20F-4D80-A051-416CCC1E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AD4F0-B4E3-4F10-A082-A377C865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9FD6F-9DFA-4542-8611-62452CAC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FFBFA-5FE6-410B-8190-4E498FC9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41BCE-7B0B-4E9B-BBB2-9A7CF765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9264C-964B-40D9-AB82-AAF74C6E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3646D-4BD0-431B-9961-CD8A6F68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9870B-B839-4187-9E16-A36EA381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3D778-D443-4B42-B996-36AD7509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C39D9-27C7-46E3-B519-3AC28FB0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EE067-8AB6-4F5B-944B-217F51AB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3642-996C-40CD-99AE-8E11B169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16E34-0D67-43FE-8ED0-9354D739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275DA-5A8C-4CA2-9C65-B959E6BE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A4380-B311-439D-9904-3FD639DC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68118-4C9F-4F05-9FC3-7472EA7A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74BE7-4EDB-439E-BA35-EC728FFA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58FC1-91ED-4899-8626-A2434482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A382D-C3AC-42D5-ACC6-61B24AC8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2A7BE-58BB-452B-96F0-801947F3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81BEB-B181-4542-AB34-1B623D39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AA597-2526-4BE0-8E67-73052323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4F1F-ABE4-4918-88AF-3CF3823325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042C-6A76-4BB5-95BC-D34A833B4A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D3EE-DE94-4746-B94C-CCC9EEC69C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C508-BCAB-4E1D-9E20-CE4087318B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5AEF-1F78-4C83-B8B9-842D6C6C20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0C27-40B4-45E6-95F2-E163CB8766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2859-ED75-4265-BB30-8066295940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55FF-6C7D-4201-A73B-DF4E9C9F21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D35B-F519-427D-AE9E-46998C9FC0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9745-CFF4-4659-9526-2F58A9BF49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6340-40C5-46DF-B130-00727ABEB7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7AB3-A655-4F1F-BC26-6FA011FBEA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FE15-AE16-4443-B597-71B909692B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6B5E-C457-48B6-A7EA-170CFDD277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6247-DAD6-48EB-ACFA-D94E9347CE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C997-8CA0-4E23-96DC-E2FACF54D6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A3D6-F58D-4BAB-94DD-040C41A0F0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64D2-5C42-4F63-8464-C800428BEF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EC01-86F4-4603-AB74-6A3D59DFA1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C586-EA1F-451F-B2EB-E4900EAB77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74C9-C01C-4A9F-B5B1-E9DDA3E18E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01C9-0C0F-4EB4-8FF2-1DE92D066A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D0C7-88D5-463B-895D-E872A4AA2D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1A35-8F06-4A66-B610-481F974515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B353-A8F2-42FC-AC66-1195340C2D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049D-68B3-4DA2-8381-D43D719FA8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8442-937C-4D7B-9D72-7363E50EF0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43B7-A9F2-4A9B-8866-1CD7317B63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233B-89E8-4A2B-871F-64A4B0CCB3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8920-E5EF-4101-A056-912025B744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556D-CB5B-4320-A5F1-3435C87131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F078-973A-4070-99EF-2D8655D161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A59E-9D8F-457D-8955-5166D63D6B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CC72-280D-407A-8DE9-0D996208CA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30A4-5CFD-4829-80B6-023C949D6D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0E01-0F5A-4244-B705-9A766753D7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F01E-62C2-42DC-A76A-930D2E3C96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317E-7390-49D7-91A7-39D2589669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CA22-957A-405E-8A71-7F2C780F7D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FBAA-B67F-49E5-94DC-7D09369B48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76440" y="2009880"/>
            <a:ext cx="2391120" cy="7714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84502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9633" descr=""/>
          <p:cNvPicPr/>
          <p:nvPr/>
        </p:nvPicPr>
        <p:blipFill>
          <a:blip r:embed="rId1"/>
          <a:stretch/>
        </p:blipFill>
        <p:spPr>
          <a:xfrm>
            <a:off x="623880" y="1576440"/>
            <a:ext cx="7896240" cy="37051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2627280" y="3141720"/>
            <a:ext cx="3313080" cy="447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2585880" y="4724280"/>
            <a:ext cx="3313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8609" descr=""/>
          <p:cNvPicPr/>
          <p:nvPr/>
        </p:nvPicPr>
        <p:blipFill>
          <a:blip r:embed="rId1"/>
          <a:stretch/>
        </p:blipFill>
        <p:spPr>
          <a:xfrm>
            <a:off x="271440" y="804960"/>
            <a:ext cx="8601120" cy="52480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900000" y="4738680"/>
            <a:ext cx="403236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900000" y="5516640"/>
            <a:ext cx="403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66760" y="595440"/>
            <a:ext cx="8610480" cy="61722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2843280" y="4349880"/>
            <a:ext cx="273672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771640" y="6222960"/>
            <a:ext cx="273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623880" y="855720"/>
            <a:ext cx="7896240" cy="53816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2556000" y="1828800"/>
            <a:ext cx="302400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2627280" y="371628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2627280" y="5603760"/>
            <a:ext cx="3024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752400" y="2419200"/>
            <a:ext cx="7639200" cy="20196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3492360" y="295272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3492360" y="3846600"/>
            <a:ext cx="35892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7352" descr=""/>
          <p:cNvPicPr/>
          <p:nvPr/>
        </p:nvPicPr>
        <p:blipFill>
          <a:blip r:embed="rId1"/>
          <a:stretch/>
        </p:blipFill>
        <p:spPr>
          <a:xfrm>
            <a:off x="271440" y="1571760"/>
            <a:ext cx="8601120" cy="3714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5435640" y="2736720"/>
            <a:ext cx="180036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5508720" y="3673440"/>
            <a:ext cx="180000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5508720" y="4638600"/>
            <a:ext cx="273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6324" descr=""/>
          <p:cNvPicPr/>
          <p:nvPr/>
        </p:nvPicPr>
        <p:blipFill>
          <a:blip r:embed="rId1"/>
          <a:stretch/>
        </p:blipFill>
        <p:spPr>
          <a:xfrm>
            <a:off x="619200" y="690480"/>
            <a:ext cx="7905600" cy="547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5148360" y="735120"/>
            <a:ext cx="172872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5219640" y="1700280"/>
            <a:ext cx="252108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5148360" y="2637000"/>
            <a:ext cx="252072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5148360" y="3573360"/>
            <a:ext cx="252072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5148360" y="4522680"/>
            <a:ext cx="252072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7"/>
          <a:stretch/>
        </p:blipFill>
        <p:spPr>
          <a:xfrm>
            <a:off x="5148360" y="5502240"/>
            <a:ext cx="3311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5300" descr=""/>
          <p:cNvPicPr/>
          <p:nvPr/>
        </p:nvPicPr>
        <p:blipFill>
          <a:blip r:embed="rId1"/>
          <a:stretch/>
        </p:blipFill>
        <p:spPr>
          <a:xfrm>
            <a:off x="633240" y="722160"/>
            <a:ext cx="7877520" cy="6019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5076720" y="280980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4572000" y="364500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4500720" y="4365720"/>
            <a:ext cx="93636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4716360" y="515772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4500720" y="5950080"/>
            <a:ext cx="93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6" descr=""/>
          <p:cNvPicPr/>
          <p:nvPr/>
        </p:nvPicPr>
        <p:blipFill>
          <a:blip r:embed="rId1"/>
          <a:stretch/>
        </p:blipFill>
        <p:spPr>
          <a:xfrm>
            <a:off x="1590840" y="2486160"/>
            <a:ext cx="5962320" cy="18856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3592440" y="273852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2340000" y="3328920"/>
            <a:ext cx="57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2231" descr=""/>
          <p:cNvPicPr/>
          <p:nvPr/>
        </p:nvPicPr>
        <p:blipFill>
          <a:blip r:embed="rId1"/>
          <a:stretch/>
        </p:blipFill>
        <p:spPr>
          <a:xfrm>
            <a:off x="252360" y="1062000"/>
            <a:ext cx="8639280" cy="47340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2843280" y="285264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2916360" y="5186520"/>
            <a:ext cx="3313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19:51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